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719F-763E-4997-B661-883844F2A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33F8-41BF-4145-B943-EE72389B6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6D71-4D56-47E0-9116-0C4A20768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81E-702E-4E6E-960D-0CACDBAB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9BC-47B0-4C6E-BC24-589A87B8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F21-0C7A-499B-AA1E-3E736099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26E-B4EE-4304-87F7-E27E5082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512-C3EF-4E95-BE55-335BD8A2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553-C83F-4BC4-9F8A-CF56242E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424-A9B6-4E42-A99D-D92004CC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672-B4A7-4DBC-9431-0AA2FD5C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DA1-E464-4856-9A37-10186FE8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B90-39C0-4C01-8136-36D62DF1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A26-2630-4392-A818-FAE3E212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630-E3E9-4444-8254-B669B25E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7E46-65CF-4936-95EF-A2499DC66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9051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emocionada y content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27" descr=""/>
          <p:cNvPicPr/>
          <p:nvPr/>
        </p:nvPicPr>
        <p:blipFill>
          <a:blip r:embed="rId1"/>
          <a:stretch/>
        </p:blipFill>
        <p:spPr>
          <a:xfrm>
            <a:off x="2736720" y="3529080"/>
            <a:ext cx="4078440" cy="1251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Maninder, si tu puedes comer mis chocolates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 Masiel! ¿Me puede dar un chocolate por favo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aninder, y si yo quiero ir. Te voy manna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 amiga! ¿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3434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ia! Estoy feliz y anciosia para estar contigo hoy! Mi dia es maravilloso hoy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Pero qùe haces, estas lista? Este dia va a estar divertido. Tu eres muy alta so m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Voy a poner botas. Somos como hermanas y te quiero much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19051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1981080" y="19051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emocionada y content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27" descr=""/>
          <p:cNvPicPr/>
          <p:nvPr/>
        </p:nvPicPr>
        <p:blipFill>
          <a:blip r:embed="rId1"/>
          <a:stretch/>
        </p:blipFill>
        <p:spPr>
          <a:xfrm>
            <a:off x="2736720" y="3736800"/>
            <a:ext cx="4078440" cy="828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7"/>
          <p:cNvSpPr/>
          <p:nvPr/>
        </p:nvSpPr>
        <p:spPr>
          <a:xfrm>
            <a:off x="2819520" y="3352680"/>
            <a:ext cx="39621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tanbiem pero yo quiero correr, escribir, usar mi telephono, aprender com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ocinar, cantar y desayunar porqùe tengo mucha hambr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cansada hoy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telephono es 718-976-9954 y ahora ya no estoy cansada.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2666880" y="5181480"/>
            <a:ext cx="441972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Somos muy buenas amigas no? David y Emily estan muy contentas porque som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Viejas amigas. Tu eres muy alta tambien! David y Emily son altos tamb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mos guntas por siempre. Y te extraño. Este perro que compramos te extrañ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2666880" y="6248520"/>
            <a:ext cx="4419720" cy="7617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nemos muchos años juntos por eso te quiero bastante. Tu tienes una buena personalidad. Emily me es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sperando. Sus amigas son sympaticas. Ellas tienen muchas ropa que me gusta. Pero no me abburen, qu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8:16Z</dcterms:modified>
  <cp:revision>109</cp:revision>
  <dc:subject/>
  <dc:title>Profile</dc:title>
</cp:coreProperties>
</file>